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FAD-EF85-4CD6-943E-431F2BB2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03F-571B-47F4-A7D3-B70C5B8E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CAA-2FA0-4AD9-868D-2ECD0C6E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D6B-9857-4D8F-B61F-428C98D5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4D9D-41CB-4A73-9BF9-0240DC12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7754-DD59-4FD8-BD1C-58D3F378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2353-FB98-4D42-9BC5-55E4C290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C873-90F1-4A5F-9727-7AA6DA22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5F31-D96E-4533-9B2E-DD5EBD92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10EC-5542-44BB-8975-65A600DB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E512-B3A8-451E-B97D-7B2EA1C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FA1-601D-421B-B128-E7160335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6B48-24EF-4C44-8A58-E529D4D0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4FE3-FE70-4AB0-B107-F371E332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BD14-579E-4D68-BAA8-C21E85B5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FD7C-7D55-4D47-A85B-F6E9B2F8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7B0D-5806-43BA-A24F-B545BD1F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061-FE63-4EE2-B7BF-E81B9916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B46-47B3-4AB4-A3EC-8A57EB93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7B2-7639-4DD2-83D8-2228B7E2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CDC-345A-43CA-8B7B-4C48B36F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E25-93C1-46B6-884A-693E9D5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366-2AFF-416D-A8A6-61BFB59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633-6924-439F-8C63-B3B27F5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14B9-6859-48B8-9463-77B9BD3DD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1CB4-6357-449A-BC2C-6114F464310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teacher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azz saxophonist painting – connect with tooting horn and music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ep Out of the Box –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OGETH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nk, create, share, and grow – AASL L4L Initi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photos and drawing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rom JMoreillon Personal Col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ed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d music and Animo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ep Out of the Box –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ogeth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ot about student achievemen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DD PHO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– tooting ho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ructional partners – teach out of the b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ral photograph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coteach a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rategies, collaboration, and have FU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ral photographs with educators</a:t>
            </a:r>
            <a:r>
              <a:rPr b="0" lang="ja-JP" sz="3200" spc="-1" strike="noStrike">
                <a:solidFill>
                  <a:srgbClr val="333399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smiling faces (emphasis on fun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jointly co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DD PHO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 show co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d coassess student le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hotos show educators co-monitoring student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DD PHOTO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ditional secondary level, includ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y take r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gether to impact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d improve teach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rawing of penguins (taking risk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ool librarians and classroom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 out, out, out of the box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gether co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, create, share, and g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nflower painting – one fl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dens of opportun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students and themse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o grow and GROW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unflower painting – multiple flo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ooking for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coteaching lesson support?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Book Covers –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PLACE Elementary Book Jacket (20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4:28:11Z</dcterms:created>
  <dc:creator>Judi Moreillon</dc:creator>
  <dc:description/>
  <dc:language>en-US</dc:language>
  <cp:lastModifiedBy>Nicole H.</cp:lastModifiedBy>
  <dcterms:modified xsi:type="dcterms:W3CDTF">2013-02-17T02:43:24Z</dcterms:modified>
  <cp:revision>21</cp:revision>
  <dc:subject/>
  <dc:title>Coteaching</dc:title>
</cp:coreProperties>
</file>