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4E5A-E9BB-4981-87AD-8007A736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CAB-ED59-4C9D-B56B-1C19DA39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FC09-DB34-4610-958A-9E9E8382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B0FD-A4C4-48F3-A05F-17C45532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E178-9BF1-4967-9BCD-30FFAFB1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D3E4-FE8F-474C-B86C-9B9C2051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A9B6-909D-4AFC-B3B8-253F7FFA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389E-D135-47A8-BFF8-F2054CD9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F340-167A-4342-B024-FCB512B3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17A2-2CEF-4374-877B-49438352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D268-B4E3-45F2-982F-7DF6F8DC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FD1-EAC2-4BCA-A4B4-4C3D9CB2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8496-EB25-4D15-A9C0-61EAA1DF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6A48-1387-429D-9CF2-15E884CC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DD1D-2CD2-43FD-A219-D630BC0E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499E-E676-4074-92DF-08FEE7BF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DA11-1602-41A2-BEF0-14E3F636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3B4-752C-4AF7-9800-F32F64E2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9DCA-A913-4B01-8A97-8CF3F19A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19D-86C0-4E20-AD35-4C8E194A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1B9-F76A-4FB1-8E2E-FAE0F4F7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16C8-3E12-40C1-BA3D-9933DCAB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CBE-0EC7-4D41-AB17-FDB60AFD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1F58-7C8A-4CE5-A3A0-F38807B1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DB70-B4F7-444C-B631-F2EC515FB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7AA0-25C4-4C7E-85A9-62BC14A698C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447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teachers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Jazz saxophonist painting – connect with tooting horn and music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ep Out of the Box –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OGETH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nk, create, share, and grow – AASL L4L Initi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photos and drawing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rom JMoreillon Personal Col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sed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d music and Animo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ep Out of the Box –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ogeth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oot about student achievemen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DD PHOTO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– tooting ho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ructional partners – teach out of the bo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ral photograph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y coteach and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rategies, collaboration, and have FU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ral photographs with educators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smiling faces (emphasis on fun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y jointly co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DD PHOTO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o show co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d coassess student learnin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hotos show educators co-monitoring student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DD PHOTO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ditional secondary level, includ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y take ris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ogether to impact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d improve teachin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rawing of penguins (taking risk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ool librarians and classroom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out, out, out of the box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gether co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, create, share, and g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unflower painting – one flow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rdens of opportun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r students and themsel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o grow and GROW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unflower painting – multiple flo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oking for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r coteaching lesson support?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ook Covers –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PLACE Elementary Book Jacket (201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4:28:11Z</dcterms:created>
  <dc:creator>Judi Moreillon</dc:creator>
  <dc:description/>
  <dc:language>en-US</dc:language>
  <cp:lastModifiedBy>Nicole H.</cp:lastModifiedBy>
  <dcterms:modified xsi:type="dcterms:W3CDTF">2013-02-17T02:43:24Z</dcterms:modified>
  <cp:revision>21</cp:revision>
  <dc:subject/>
  <dc:title>Coteaching</dc:title>
</cp:coreProperties>
</file>