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848-A467-4495-B501-78E06459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023-1D4A-412A-A9B7-7F0393E1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75E-AC8D-4B92-9391-9DC7B0F8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C0D-4CA1-42ED-A4C6-AD303123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F317-82C7-4D19-A09D-65B9470A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2498-516A-4487-9379-254C3E7E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2002-B67C-492B-9E73-0E3D3007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E302-8C30-4A07-92A2-2F7B07BB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E908-DCA3-470B-8D12-3DF992E0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13CC-49DB-46A3-923D-48F9955A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5870-4646-4AF5-A871-C9EDAFF3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A6E-5CCF-4AFE-805D-30931781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1EB5-756B-4124-BDC0-15C37B3C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CE62-DB5B-4B17-A364-6F2CA8E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1F6A-407E-401B-910D-CD60E609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6171-5120-4038-B160-25FF887E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5645-B906-4C6C-B122-67057ACF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870-F73C-4A7F-9BD7-851D18B7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0D5-9B35-4162-92CF-D99DA73B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229-9160-459B-8394-15153DAE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24F-253C-4E12-BE37-DF95B363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934-E6DD-4244-BDFC-00EDC4DC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CD89-FE5D-4B73-890E-F9F41F28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674-7CBA-4CA0-B707-5A0A7998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C65A-BF3D-4D92-AFDE-6B46984DF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C49C-7A86-4756-BF7A-EA246F4F9BF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teacher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azz saxophonist painting – connect with tooting horn and music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ep Out of the Bo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nk, create, share, and grow – AASL L4L Initi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photos and drawin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rom JMoreillon Personal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ed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d music and Animo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ep out of the bo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ot about student achievemen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ructional partners – teach out of the bo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ral photograph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y coteach an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rategies, collaboration, and have FU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ral photographs with educators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smiling faces (emphasis on fun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y jointly co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d coassess student learn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hotos show educators co-monitoring student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y take r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gether to impact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d improve teach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rawing of penguins (taking risk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ool librarians and classroom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out, out, out of the box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gether co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, create, share, and g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nflower painting – one fl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rdens of opportun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students and themse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 grow and GROW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nflower painting – multiple flo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oking for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coteaching lesson support?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ook Co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28:11Z</dcterms:created>
  <dc:creator>Judi Moreillon</dc:creator>
  <dc:description/>
  <dc:language>en-US</dc:language>
  <cp:lastModifiedBy>Nicole H.</cp:lastModifiedBy>
  <dcterms:modified xsi:type="dcterms:W3CDTF">2013-02-17T02:38:34Z</dcterms:modified>
  <cp:revision>17</cp:revision>
  <dc:subject/>
  <dc:title>Coteaching</dc:title>
</cp:coreProperties>
</file>