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B7E8-5A0B-4BCA-9890-1E17F49B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F55-9AE9-4108-98C3-257340FE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FBD-B235-4590-A62D-687354F3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C4B-383E-44D9-93DC-C42CE897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D9AC-D1B2-4481-9CB2-79165CB9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BED4-ADE8-4ABD-92DD-C89790C5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F75A-A21F-449E-8864-5CF80D30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CF30-809C-422C-9BB7-23F3D9E4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0AC2-4F3F-42D1-8977-92C5A9EF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DBBF-4828-47A8-9740-26CA8855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6AAF-57E9-40D8-BD7A-B8FFD8AE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F14-64E8-4D3A-AEE7-80E15FD8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1994-3511-464C-A7EE-E51B6AD2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8157-53FC-4B38-9213-D1E49EC7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05C3-90A3-49B1-BEB2-60DE7759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654A-C699-4956-B3E2-1748234B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7805-29F3-4030-BB63-6DF1CA09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BDB-F609-4FDE-A78A-439FD903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F62-3764-4A0F-AED4-81905EF3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018-B514-410B-8391-57B0EC91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41D-47A0-4A5C-A77B-62E4DEC7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CD2-4790-4C76-A366-A7BA4117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896-894E-4A32-82CC-FA23D74D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6DF-BA73-48ED-9466-1E33F3C2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FB55-CD45-4491-B650-412BD0B7E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E4A5-39A3-4DC0-A545-89B7A10EB46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teacher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azz saxophonist painting – connect with tooting horn and music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ep Out of the Bo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nk, create, share, and grow – AASL L4L Initi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photos and drawin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rom JMoreillon Personal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ed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d music and Animo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ep out of the bo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ot about student achievemen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ructional partners – teach out of the bo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ral photograph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y coteach an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rategies, collaboration, and have FU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ral photographs with educators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smiling faces (emphasis on fun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y jointly co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d coassess student learn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hotos show educators co-monitoring student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y take r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gether to impact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d improve teach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rawing of penguins (taking risk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ool librarians and classroom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out, out, out of the box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gether co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, create, share, and g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nflower painting – one fl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rdens of opportun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 students and themse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 grow and GROW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nflower painting – multiple flo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oking for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 coteaching lesson support?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ook Co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28:11Z</dcterms:created>
  <dc:creator>Judi Moreillon</dc:creator>
  <dc:description/>
  <dc:language>en-US</dc:language>
  <cp:lastModifiedBy>Nicole H.</cp:lastModifiedBy>
  <dcterms:modified xsi:type="dcterms:W3CDTF">2013-02-17T02:38:34Z</dcterms:modified>
  <cp:revision>17</cp:revision>
  <dc:subject/>
  <dc:title>Coteaching</dc:title>
</cp:coreProperties>
</file>